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5D0A-8010-4CD2-833A-313E8DE5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090-3306-4B28-A67F-AA2FC39F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0B35-4824-4196-9C5D-9C254C67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D309-3B29-4280-90B9-061EA2A2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3C13-1FD9-4B56-B388-A0D62C39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102-3CCB-4498-B292-6CBE9045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FDB7-1DE8-45F8-96E7-10B04ACC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593E-8903-47A2-9398-A4F41042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142E-95D8-457F-A639-03C136FA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8D3-AE50-4201-97B6-A9602EB7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D3F-11C0-4C1F-96F5-98C0D44D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580C-4FFA-4A42-B805-134E391C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CE09-03DC-4E36-A61F-932D706060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12000"/>
          </a:blip>
          <a:srcRect l="0" t="0" r="0" b="65144"/>
          <a:stretch/>
        </p:blipFill>
        <p:spPr>
          <a:xfrm>
            <a:off x="4952880" y="5257800"/>
            <a:ext cx="4191120" cy="1600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>
            <a:lum bright="6000"/>
          </a:blip>
          <a:srcRect l="9148" t="0" r="60574" b="0"/>
          <a:stretch/>
        </p:blipFill>
        <p:spPr>
          <a:xfrm>
            <a:off x="7943760" y="3429000"/>
            <a:ext cx="120024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848720" y="5105520"/>
            <a:ext cx="1066680" cy="106668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>
            <a:lum bright="12000"/>
          </a:blip>
          <a:srcRect l="65144" t="0" r="0" b="0"/>
          <a:stretch/>
        </p:blipFill>
        <p:spPr>
          <a:xfrm>
            <a:off x="0" y="3429000"/>
            <a:ext cx="118908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>
            <a:lum bright="6000"/>
          </a:blip>
          <a:srcRect l="0" t="60574" r="0" b="9148"/>
          <a:stretch/>
        </p:blipFill>
        <p:spPr>
          <a:xfrm>
            <a:off x="533520" y="5257800"/>
            <a:ext cx="457200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>
            <a:lum bright="12000"/>
          </a:blip>
          <a:srcRect l="65144" t="0" r="0" b="0"/>
          <a:stretch/>
        </p:blipFill>
        <p:spPr>
          <a:xfrm>
            <a:off x="7954920" y="0"/>
            <a:ext cx="1189080" cy="350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>
            <a:lum bright="6000"/>
          </a:blip>
          <a:srcRect l="0" t="60574" r="0" b="9148"/>
          <a:stretch/>
        </p:blipFill>
        <p:spPr>
          <a:xfrm>
            <a:off x="5029200" y="0"/>
            <a:ext cx="3429000" cy="1200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>
            <a:lum bright="12000"/>
          </a:blip>
          <a:srcRect l="0" t="0" r="0" b="65144"/>
          <a:stretch/>
        </p:blipFill>
        <p:spPr>
          <a:xfrm>
            <a:off x="1143000" y="0"/>
            <a:ext cx="3909960" cy="1189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>
            <a:lum bright="6000"/>
          </a:blip>
          <a:srcRect l="60574" t="0" r="9148" b="0"/>
          <a:stretch/>
        </p:blipFill>
        <p:spPr>
          <a:xfrm>
            <a:off x="0" y="0"/>
            <a:ext cx="1200240" cy="342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228600"/>
            <a:ext cx="1143000" cy="106668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43000" y="1143000"/>
            <a:ext cx="6858000" cy="4114800"/>
          </a:xfrm>
          <a:prstGeom prst="rect">
            <a:avLst/>
          </a:prstGeom>
          <a:solidFill>
            <a:srgbClr val="626ba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6699"/>
              </a:solidFill>
              <a:latin typeface="Bauhaus 93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47920" y="1676520"/>
            <a:ext cx="63244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ories Governing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al Language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cquisi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626b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24680" y="5181480"/>
            <a:ext cx="914400" cy="914400"/>
          </a:xfrm>
          <a:prstGeom prst="sun">
            <a:avLst>
              <a:gd name="adj" fmla="val 25000"/>
            </a:avLst>
          </a:prstGeom>
          <a:solidFill>
            <a:srgbClr val="626b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quisition vs. Learning Hypo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s must focus on communication rather than memorization of 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ersion in meaningful and comprehensible contexts a m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language in meaningful interactions develops communicative compet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96080" y="53341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17524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4290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52578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49528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tural Order Hypo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s first language acqui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al progress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roduction, comprehension, silent stage = no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production, 1to 2 word sent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ch emergence, 3 to 4 word sent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mediate fluency, errors are developmental and students will outgrow them as they are exposed to what is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12952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29600" y="55627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39625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nitor Hypo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learners know language rules, they can self-correct as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order to work, learners ne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to think about what they need to say or have s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focus on form (how do I say it correctly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ledge of rules and be able to apply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39625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15200" y="10666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54100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51814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72400" y="9907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59436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put Hypo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needs to be comprehensible, but slightly above current level of compet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must present materials in ways that are not tied 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u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ipul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stu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ese (repeat, rephrase, slower spee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r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35812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8862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37339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72400" y="14479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55627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37339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2004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01000" y="48769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ective Filter Hypo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important affective variables favoring second language acquisi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-anxiety learning 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f-confi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f-este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ble to acquire language in an environment where they feel accepted and free to take risks; they know if they make mistakes, they will not be ridicu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 rot="20038800">
            <a:off x="7378200" y="2557440"/>
            <a:ext cx="1347840" cy="1523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04920" y="4800600"/>
            <a:ext cx="1139760" cy="1711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80880" y="31240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51814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28954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89600">
            <a:off x="7924680" y="3049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49528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60199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 http://education.csm.edu/students/clewin/2nd_language_acquisition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6000"/>
          </a:blip>
          <a:srcRect l="0" t="60574" r="0" b="91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666880" y="1523880"/>
            <a:ext cx="6248520" cy="5105520"/>
          </a:xfrm>
          <a:prstGeom prst="rect">
            <a:avLst/>
          </a:prstGeom>
          <a:solidFill>
            <a:srgbClr val="5f68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666520" y="1599840"/>
            <a:ext cx="617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F. Skinner (operant conditioning, reward-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learn language through stimulus, response, and reinforc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ants learn oral language from adults trough a process involving imitation, rewards, and rehears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age development is a result of imitating as it is reinforced by careg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80880"/>
            <a:ext cx="8458200" cy="914400"/>
          </a:xfrm>
          <a:prstGeom prst="rect">
            <a:avLst/>
          </a:prstGeom>
          <a:solidFill>
            <a:srgbClr val="626b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533520"/>
            <a:ext cx="78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havioristic Theor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2219400" cy="3962520"/>
          </a:xfrm>
          <a:prstGeom prst="rect">
            <a:avLst/>
          </a:prstGeom>
          <a:ln w="76320">
            <a:solidFill>
              <a:srgbClr val="5f68ad"/>
            </a:solidFill>
            <a:miter/>
          </a:ln>
        </p:spPr>
      </p:pic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 parent is not present when the child attempts speech utterances, the rewards for the desired speech are not always systematically provi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ng children do not always imitate adult spee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oes not account for speech terms invented by inf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533520"/>
            <a:ext cx="78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havioristic Theor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581280" y="9907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9144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lum bright="12000"/>
          </a:blip>
          <a:srcRect l="0" t="0" r="0" b="65144"/>
          <a:stretch/>
        </p:blipFill>
        <p:spPr>
          <a:xfrm>
            <a:off x="4114800" y="0"/>
            <a:ext cx="5029200" cy="118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>
            <a:lum bright="6000"/>
          </a:blip>
          <a:srcRect l="0" t="9148" r="0" b="60574"/>
          <a:stretch/>
        </p:blipFill>
        <p:spPr>
          <a:xfrm>
            <a:off x="0" y="0"/>
            <a:ext cx="4114800" cy="1200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520" y="1752120"/>
            <a:ext cx="4800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ashan/Choms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orists referred to as nativ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ve that language learning is natural for human be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have an “innate” ability to generate syntactically correct sent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52280"/>
            <a:ext cx="8381880" cy="914400"/>
          </a:xfrm>
          <a:prstGeom prst="rect">
            <a:avLst/>
          </a:prstGeom>
          <a:solidFill>
            <a:srgbClr val="626b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2120" y="304920"/>
            <a:ext cx="8001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natist Theor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rcRect l="7559" t="0" r="12447" b="0"/>
          <a:stretch/>
        </p:blipFill>
        <p:spPr>
          <a:xfrm>
            <a:off x="5486400" y="3048120"/>
            <a:ext cx="3429000" cy="3457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41148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54864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11430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31240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59436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1880" y="27432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01000" y="59436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e inborn factors are dominant in language acqui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ants possess a biological LAD (language acquisition dev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+ year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explain how children can generate or invent language they have never heard bef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4864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>
            <a:lum bright="6000"/>
          </a:blip>
          <a:srcRect l="0" t="60574" r="0" b="9148"/>
          <a:stretch/>
        </p:blipFill>
        <p:spPr>
          <a:xfrm>
            <a:off x="5410080" y="2819520"/>
            <a:ext cx="3581640" cy="2803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6019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gots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ists known as social interaction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romise between the behavioristic and innatist theories of language acquisi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guage is rule-governed, cultural activity learned in interaction w/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47920" y="304920"/>
            <a:ext cx="5267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teractionist Theor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791320" y="3505320"/>
            <a:ext cx="3124080" cy="2394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rot="20708400">
            <a:off x="2590920" y="40381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62520" y="31240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30481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5335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11430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86600" y="59436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59436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age acquisition grows out of an active need to use language and to function in soc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al factors are dominant in language acqui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s affecting an infant’s ability to acquire oral langua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guis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gn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8006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35812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1143000"/>
            <a:ext cx="914400" cy="914400"/>
          </a:xfrm>
          <a:prstGeom prst="sun">
            <a:avLst>
              <a:gd name="adj" fmla="val 46875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9907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55627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guage is directly related to cognitive 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e + nurture= language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+ year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gotsky proposed zone of proximal development (ZPD) in relation to language acquis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 language through social mediated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lum bright="12000"/>
          </a:blip>
          <a:srcRect l="0" t="0" r="0" b="65144"/>
          <a:stretch/>
        </p:blipFill>
        <p:spPr>
          <a:xfrm>
            <a:off x="4952880" y="5257800"/>
            <a:ext cx="419112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>
            <a:lum bright="6000"/>
          </a:blip>
          <a:srcRect l="9148" t="0" r="60574" b="0"/>
          <a:stretch/>
        </p:blipFill>
        <p:spPr>
          <a:xfrm>
            <a:off x="7943760" y="3429000"/>
            <a:ext cx="1200240" cy="3429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848720" y="5105520"/>
            <a:ext cx="1066680" cy="106668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>
            <a:lum bright="12000"/>
          </a:blip>
          <a:srcRect l="65144" t="0" r="0" b="0"/>
          <a:stretch/>
        </p:blipFill>
        <p:spPr>
          <a:xfrm>
            <a:off x="0" y="3429000"/>
            <a:ext cx="1189080" cy="3429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>
            <a:lum bright="6000"/>
          </a:blip>
          <a:srcRect l="0" t="60574" r="0" b="9148"/>
          <a:stretch/>
        </p:blipFill>
        <p:spPr>
          <a:xfrm>
            <a:off x="533520" y="5257800"/>
            <a:ext cx="457200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>
            <a:lum bright="12000"/>
          </a:blip>
          <a:srcRect l="65144" t="0" r="0" b="0"/>
          <a:stretch/>
        </p:blipFill>
        <p:spPr>
          <a:xfrm>
            <a:off x="7954920" y="0"/>
            <a:ext cx="1189080" cy="3505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>
            <a:lum bright="6000"/>
          </a:blip>
          <a:srcRect l="0" t="60574" r="0" b="9148"/>
          <a:stretch/>
        </p:blipFill>
        <p:spPr>
          <a:xfrm>
            <a:off x="5029200" y="0"/>
            <a:ext cx="3429000" cy="1200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>
            <a:lum bright="12000"/>
          </a:blip>
          <a:srcRect l="0" t="0" r="0" b="65144"/>
          <a:stretch/>
        </p:blipFill>
        <p:spPr>
          <a:xfrm>
            <a:off x="1143000" y="0"/>
            <a:ext cx="3909960" cy="1189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>
            <a:lum bright="6000"/>
          </a:blip>
          <a:srcRect l="60574" t="0" r="9148" b="0"/>
          <a:stretch/>
        </p:blipFill>
        <p:spPr>
          <a:xfrm>
            <a:off x="0" y="0"/>
            <a:ext cx="1200240" cy="3429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8600" y="228600"/>
            <a:ext cx="1143000" cy="106668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43000" y="1143000"/>
            <a:ext cx="6858000" cy="4114800"/>
          </a:xfrm>
          <a:prstGeom prst="rect">
            <a:avLst/>
          </a:prstGeom>
          <a:solidFill>
            <a:srgbClr val="60597b"/>
          </a:solidFill>
          <a:ln w="9360">
            <a:solidFill>
              <a:srgbClr val="5f68ad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900"/>
                </a:solidFill>
                <a:latin typeface="Bauhaus 93"/>
              </a:rPr>
              <a:t>Secon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900"/>
                </a:solidFill>
                <a:latin typeface="Bauhaus 93"/>
              </a:rPr>
              <a:t>Language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900"/>
                </a:solidFill>
                <a:latin typeface="Bauhaus 93"/>
              </a:rPr>
              <a:t>Acquisitio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626b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4680" y="5181480"/>
            <a:ext cx="914400" cy="914400"/>
          </a:xfrm>
          <a:prstGeom prst="sun">
            <a:avLst>
              <a:gd name="adj" fmla="val 25000"/>
            </a:avLst>
          </a:prstGeom>
          <a:solidFill>
            <a:srgbClr val="626b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5:14:44Z</dcterms:created>
  <dc:creator>Networking and Technical Support</dc:creator>
  <dc:description/>
  <dc:language>en-US</dc:language>
  <cp:lastModifiedBy>Bill </cp:lastModifiedBy>
  <dcterms:modified xsi:type="dcterms:W3CDTF">2007-06-05T01:13:50Z</dcterms:modified>
  <cp:revision>8</cp:revision>
  <dc:subject/>
  <dc:title>Slide 1</dc:title>
</cp:coreProperties>
</file>